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89A-AE94-4DAD-B0D6-6401DB19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E80-D49E-489C-9670-530F43A6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A60-2EA3-41A9-954D-C655D58D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CA7-2AC3-4A1D-8F83-BA61A847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4BF-BC24-438C-8EBE-E5CF0225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6DE-55DC-4D59-AFB8-0B70B14F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57B-0475-4BDB-A939-57F5CD9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174-52A1-44D1-BECE-1448AF58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238-9FB9-4E1D-B421-2A9B1AA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3C2-B725-469A-8C47-0048E97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887-0202-4E0E-84D9-805D6A3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1E7-FB3E-432B-8813-7962EC4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6EC-BDB1-4A7E-AB8E-88DF4303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2666880"/>
            <a:ext cx="39290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Building a Pedigre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Please add the group names and then resave this document as </a:t>
            </a:r>
            <a:r>
              <a:rPr b="1" i="1" lang="en-US" sz="2800" spc="-1" strike="noStrike">
                <a:solidFill>
                  <a:srgbClr val="000000"/>
                </a:solidFill>
                <a:latin typeface="Lucida Fax"/>
              </a:rPr>
              <a:t>group name pedigree ppt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Fax"/>
              </a:rPr>
              <a:t>On your H: Drive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04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B-4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ent will demonstrate an understanding of the molecular basis of heredity. B-4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inherited traits by using the principles of Mendelian genetics (including segregation, independent assortment, and domi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Ethnicities are shown in the pedigree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Carriers and afflicted individuals are represented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e genotypes are given when available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Generations are identified and individuals can be found with a number system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0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e genotypes of the parents are determined using Punnett squares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e Pedigree starts with the parents of the unborn child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31240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352680"/>
            <a:ext cx="198144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Fath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3352680"/>
            <a:ext cx="198108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Moth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Gender is appropriately represented in the pedigree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2971800"/>
            <a:ext cx="1524240" cy="121932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4038480"/>
            <a:ext cx="1752840" cy="121932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53080" y="2590920"/>
            <a:ext cx="228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Fax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Relationships are correctly shown in the pedigree as the maternal and paternal line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124080"/>
            <a:ext cx="68580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4114800"/>
            <a:ext cx="914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43434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543440" y="5364000"/>
            <a:ext cx="76212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524240" cy="121932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4952880"/>
            <a:ext cx="1752480" cy="121932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Additional family members on the maternal side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819160" y="6400800"/>
            <a:ext cx="457560" cy="228600"/>
            <a:chOff x="2819160" y="6400800"/>
            <a:chExt cx="457560" cy="228600"/>
          </a:xfrm>
        </p:grpSpPr>
        <p:sp>
          <p:nvSpPr>
            <p:cNvPr id="69" name=""/>
            <p:cNvSpPr/>
            <p:nvPr/>
          </p:nvSpPr>
          <p:spPr>
            <a:xfrm>
              <a:off x="304812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81916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371600" y="41148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7242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114800"/>
            <a:ext cx="60984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48006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819160" y="6172200"/>
            <a:ext cx="457560" cy="228600"/>
            <a:chOff x="2819160" y="6172200"/>
            <a:chExt cx="457560" cy="228600"/>
          </a:xfrm>
        </p:grpSpPr>
        <p:sp>
          <p:nvSpPr>
            <p:cNvPr id="88" name=""/>
            <p:cNvSpPr/>
            <p:nvPr/>
          </p:nvSpPr>
          <p:spPr>
            <a:xfrm>
              <a:off x="304812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410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257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5627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15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Additional family members on the paternal side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19160" y="6400800"/>
            <a:ext cx="457560" cy="228600"/>
            <a:chOff x="2819160" y="6400800"/>
            <a:chExt cx="457560" cy="228600"/>
          </a:xfrm>
        </p:grpSpPr>
        <p:sp>
          <p:nvSpPr>
            <p:cNvPr id="114" name=""/>
            <p:cNvSpPr/>
            <p:nvPr/>
          </p:nvSpPr>
          <p:spPr>
            <a:xfrm>
              <a:off x="304812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81916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71600" y="41148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7242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114800"/>
            <a:ext cx="60984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8006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19160" y="6172200"/>
            <a:ext cx="457560" cy="228600"/>
            <a:chOff x="2819160" y="6172200"/>
            <a:chExt cx="457560" cy="228600"/>
          </a:xfrm>
        </p:grpSpPr>
        <p:sp>
          <p:nvSpPr>
            <p:cNvPr id="133" name=""/>
            <p:cNvSpPr/>
            <p:nvPr/>
          </p:nvSpPr>
          <p:spPr>
            <a:xfrm>
              <a:off x="304812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1916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410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5257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5627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715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Entire pedigree is now pieced together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Birth and death information, when applicable, is provided about each individual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Medical information, bad habits, and/or personal history is given in the family pedigree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30:40Z</dcterms:created>
  <dc:creator>Greenville Schools</dc:creator>
  <dc:description/>
  <dc:language>en-US</dc:language>
  <cp:lastModifiedBy>Greenville Schools</cp:lastModifiedBy>
  <dcterms:modified xsi:type="dcterms:W3CDTF">2008-02-26T22:57:30Z</dcterms:modified>
  <cp:revision>6</cp:revision>
  <dc:subject/>
  <dc:title>Slide 1</dc:title>
</cp:coreProperties>
</file>